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40146"/>
        <c:axId val="82831005"/>
      </c:barChart>
      <c:catAx>
        <c:axId val="87401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31005"/>
        <c:crosses val="autoZero"/>
        <c:auto val="1"/>
        <c:lblAlgn val="ctr"/>
        <c:lblOffset val="100"/>
        <c:noMultiLvlLbl val="0"/>
      </c:catAx>
      <c:valAx>
        <c:axId val="828310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01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38CA-098B-41BE-B662-ECCD151E7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9B88-0C63-43BD-83DC-118FB03B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1C10-44A3-4E5F-B84D-853615D40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F6A1-8ABC-46EF-B03E-B88F2AD88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6B2C-346F-407B-A912-4C7F698D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9AEB-AF77-42F9-B1E0-23E94EBA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DFF6-012F-4DCF-B5F4-9C847D97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0534-3E0F-438F-B206-18F2FF6A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C1F9-841A-4620-9CF4-00B58CC9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C6C4-37F2-44FB-8083-2CAE8325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CB21-A924-49AD-B769-FAD9BCAB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7EAC-CB8C-4414-95BA-C885AB5B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80DDD-2BF3-4861-A4B4-8BAFD0282A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