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40811"/>
        <c:axId val="83155320"/>
      </c:barChart>
      <c:catAx>
        <c:axId val="85040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55320"/>
        <c:crosses val="autoZero"/>
        <c:auto val="1"/>
        <c:lblAlgn val="ctr"/>
        <c:lblOffset val="100"/>
        <c:noMultiLvlLbl val="0"/>
      </c:catAx>
      <c:valAx>
        <c:axId val="83155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40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DEF-014B-4864-9122-81EC24FD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46A-FEC3-4144-849E-8869AAF8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EBA-7CC4-4930-972C-95B24E60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23C-8AAE-48A2-ABDA-0B5E2961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2F4-D8CB-4338-862F-D67FD8A7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90E-2C70-4838-8446-2A13E7FD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732-3F66-4527-AA25-C9821DA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7EA-5573-403C-9157-93C42076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DBB-8B3D-4A77-927B-8B3369B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4E1-FE8A-49B2-8FC6-4B007ECC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E70-B421-45F5-874E-5DF6751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791-FCE3-4935-B261-BE9682C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E5E2A-FFA9-4B5A-8C3F-6584DB608D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