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94759"/>
        <c:axId val="65440770"/>
      </c:barChart>
      <c:catAx>
        <c:axId val="98794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40770"/>
        <c:crosses val="autoZero"/>
        <c:auto val="1"/>
        <c:lblAlgn val="ctr"/>
        <c:lblOffset val="100"/>
        <c:noMultiLvlLbl val="0"/>
      </c:catAx>
      <c:valAx>
        <c:axId val="65440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94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027-6D7B-4D57-8A20-3514C088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A3A-6A81-41E3-95DE-771D48FF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665-B50F-437C-862F-7ABEECCA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753-308B-41FA-85F8-2ED695E4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3C9-0EB7-4FAD-8DD0-E9CFEDB9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99F-3F07-4E2D-9D23-D2853C28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C3A-9EA7-430F-B922-64655D46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E45-1B96-46BA-A5F7-D77C7B8A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79D-179E-46B2-8BC0-322DD108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6FD-C8BC-4501-8E97-EA8D3D22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102-DA4D-4BBA-8241-0CE4B267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11E-1CEB-411B-8610-134CC72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2F587-7799-46CA-8451-C40DAB9D7E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