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38157"/>
        <c:axId val="26986566"/>
      </c:barChart>
      <c:catAx>
        <c:axId val="28138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86566"/>
        <c:crosses val="autoZero"/>
        <c:auto val="1"/>
        <c:lblAlgn val="ctr"/>
        <c:lblOffset val="100"/>
        <c:noMultiLvlLbl val="0"/>
      </c:catAx>
      <c:valAx>
        <c:axId val="26986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8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19F-6B5C-4CAC-AA5E-F1E6B6BC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07E-7DF2-4DC5-83E7-92139AB6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F0E-A2D0-49CC-A81B-D5B1686D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DAA-3879-41D1-B447-254B39C3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B8C-97B0-492B-BA4C-4D6E01A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8B0-839D-40F4-BDC8-25CCE06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911-8AAC-4926-9B19-1324B185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ED9-A670-4E9A-984B-F4EA6692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078-00F2-46AA-85D9-43ED380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A33-3FFB-4FFC-B326-D3261495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B99-E059-42DF-9686-9E486F7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E91-B1FC-49A7-BEB1-8AF45D89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51EDE-073E-4281-852F-2BD9D70966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