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57096"/>
        <c:axId val="830240"/>
      </c:barChart>
      <c:catAx>
        <c:axId val="85357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240"/>
        <c:crosses val="autoZero"/>
        <c:auto val="1"/>
        <c:lblAlgn val="ctr"/>
        <c:lblOffset val="100"/>
        <c:noMultiLvlLbl val="0"/>
      </c:catAx>
      <c:valAx>
        <c:axId val="830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57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ACD-39EA-4C9C-A5D8-43D10CE4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C12-6F31-44FC-AEDD-AABCCD9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2EB-9BE2-44F6-91E7-54F0F820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A1F-1AC9-4D7B-BEF7-E4D4970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A2C-BB15-4F18-AB2B-182B440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2E0-0E56-43ED-9823-F4B5ADE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93C-81CD-456B-886C-00BB266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D39-87A4-430A-9F3C-CED4AC6E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474-798F-491F-95AC-F19BA5A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B21-4522-4138-A10A-E54148C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243-90B0-4AC6-BA92-6574E43C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021-388A-402A-8D3D-4BD13FB5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63874-ABCD-475B-A133-21D037AEE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