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98326"/>
        <c:axId val="41497699"/>
      </c:barChart>
      <c:catAx>
        <c:axId val="19698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7699"/>
        <c:crosses val="autoZero"/>
        <c:auto val="1"/>
        <c:lblAlgn val="ctr"/>
        <c:lblOffset val="100"/>
        <c:noMultiLvlLbl val="0"/>
      </c:catAx>
      <c:valAx>
        <c:axId val="41497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8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4BC-73A6-45B1-880E-F88DD295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1D2-FE76-4FE7-8548-8FB0E8D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630-C379-40E6-9561-C043D982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32B-CE01-40ED-93FC-47B982C1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464-F558-40EF-847A-294B5FDB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433-3345-4B3B-9B59-B3380B6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34C-EF32-481B-9E1A-3D6C650B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C8B-6299-4A23-B007-9C064FCD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BDB-368C-4AD7-BB6D-649FA957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8E3-E95A-4F4E-85CD-ABD7165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C3-EFE6-4181-B37C-75AC81D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61D-67DB-4F2C-B93F-E88A83F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77809-1054-4589-98F7-C549EA976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