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58765"/>
        <c:axId val="77767399"/>
      </c:barChart>
      <c:catAx>
        <c:axId val="39858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7399"/>
        <c:crosses val="autoZero"/>
        <c:auto val="1"/>
        <c:lblAlgn val="ctr"/>
        <c:lblOffset val="100"/>
        <c:noMultiLvlLbl val="0"/>
      </c:catAx>
      <c:valAx>
        <c:axId val="77767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58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585-F91F-43EC-BB20-24B3C94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DAF-0A35-458F-93E6-7BCCE8D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D4-7637-4414-9D65-492314D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B85-A41A-4496-884A-FA65F47F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255-D403-4C3D-9F9B-E4989D1E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30F-FF6B-421F-A820-C5BA796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A34-87B6-4A4C-9B7B-EB0B397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304-FA8A-4DB3-A912-1B81095F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FB3-141F-4A8E-BBEA-238A375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D13-91D4-40F6-B672-F99990EC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B86-9B6D-4D63-9D7D-C5AF373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AF6-4576-4B9A-8CBB-A708D5F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262BD-013F-4D33-B784-8E6C5583F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