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15275"/>
        <c:axId val="87262840"/>
      </c:barChart>
      <c:catAx>
        <c:axId val="10015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62840"/>
        <c:crosses val="autoZero"/>
        <c:auto val="1"/>
        <c:lblAlgn val="ctr"/>
        <c:lblOffset val="100"/>
        <c:noMultiLvlLbl val="0"/>
      </c:catAx>
      <c:valAx>
        <c:axId val="87262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15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5B5-A8C1-47BC-88FC-847E3760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29B-2FBE-4DDF-9D49-22783621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5133-679C-4B63-B9E6-29F88553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BC0-FAD4-4DEE-8A56-F0A2EF35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043-0B83-41CB-A616-2C74D298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915-8DFE-42BC-ABAA-BC382C9D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7DD-7869-4601-801F-12712338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FE1-33AF-48A5-8078-E99638E5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F38-2D98-4E05-9E99-9BE10F83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121A-B432-4170-8ACA-D3A360AC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416-F949-4567-957A-437980A5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EB84-819E-48A2-9DB2-A0B121A0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87FF4-E9EE-4A9F-9BD3-9D3CF465FA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