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53296"/>
        <c:axId val="38845735"/>
      </c:barChart>
      <c:catAx>
        <c:axId val="71853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45735"/>
        <c:crosses val="autoZero"/>
        <c:auto val="1"/>
        <c:lblAlgn val="ctr"/>
        <c:lblOffset val="100"/>
        <c:noMultiLvlLbl val="0"/>
      </c:catAx>
      <c:valAx>
        <c:axId val="38845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53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03E-2F9F-49A2-8F89-40151A60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B12-BF01-4615-A592-3C2971BC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FCC-B714-418E-82C6-BC887BDF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E80-FF7C-4B8B-A1DD-996833E3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650-FBC9-46EA-89B6-3CA72940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C94-C402-44BA-9F19-00C3B903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B24-A328-4ED9-8473-90A74D35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501-29E7-488E-9C2C-3E1AAEFA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EBD-B091-427D-B273-80B7B8CD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613-2279-42A4-85B4-2801FF49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04B-28D5-4C97-8D8F-2995C1E5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021-4B09-4D00-AF41-EC7CF2E6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2BB39-A2E0-442E-AD24-D6A6C76293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