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88569"/>
        <c:axId val="82705370"/>
      </c:barChart>
      <c:catAx>
        <c:axId val="48788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05370"/>
        <c:crosses val="autoZero"/>
        <c:auto val="1"/>
        <c:lblAlgn val="ctr"/>
        <c:lblOffset val="100"/>
        <c:noMultiLvlLbl val="0"/>
      </c:catAx>
      <c:valAx>
        <c:axId val="82705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88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AC8-D694-430A-B8B2-0C6F88A9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B21-FB9A-4D85-8687-3C4EEC77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51A-5786-44B2-BDF8-630071CC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E0F-1EFB-4DCC-B8FD-0B2883B9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21F-3F05-4F56-8560-404AE256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F9C-02D7-4127-8ADC-BC0822B0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E3A-C586-4B46-A708-FF25C631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BC1-3E67-4AAC-9433-6E6A7397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17D-C965-4B2D-A652-12195DD0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875-B20E-492A-87D7-F1A1DE6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437-0F9A-434E-9B14-4FC8284E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8BF-AEE6-4514-B925-C932E1F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D3269-6F47-4394-B206-AB88095FCD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