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82885"/>
        <c:axId val="78538835"/>
      </c:barChart>
      <c:catAx>
        <c:axId val="48682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38835"/>
        <c:crosses val="autoZero"/>
        <c:auto val="1"/>
        <c:lblAlgn val="ctr"/>
        <c:lblOffset val="100"/>
        <c:noMultiLvlLbl val="0"/>
      </c:catAx>
      <c:valAx>
        <c:axId val="78538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82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79D-30DB-4C84-A81F-1686F2FE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D7DF-656A-4A76-B75E-8F58FA6C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E3DC-8300-4011-99BC-3D2EF147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079-DF2B-4264-B4E2-B2DB4406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5AC8-3A4A-4C16-8E5A-99A6AB23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D70-890E-4C0B-9FEA-6311779F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7B9-7671-43AA-977F-C0F20DE6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EEBC-F214-41B2-B86C-F6DBB059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5158-1FE1-43E9-B077-6CC3BBC3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1EF0-AE77-4EA8-8342-46A1B5DA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5EE-1F5C-46EC-B813-006F0AB9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0F3-D387-4F54-BEA2-EC79A412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FD6F8-6034-45F0-9AC5-A274FEB67D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