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16440"/>
        <c:axId val="35816717"/>
      </c:barChart>
      <c:catAx>
        <c:axId val="89616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16717"/>
        <c:crosses val="autoZero"/>
        <c:auto val="1"/>
        <c:lblAlgn val="ctr"/>
        <c:lblOffset val="100"/>
        <c:noMultiLvlLbl val="0"/>
      </c:catAx>
      <c:valAx>
        <c:axId val="35816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16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B2B-EFD5-4875-A893-BDEADEE0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2A5-0DC3-47D5-A62A-98B27E01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579-FCDF-45DE-BC70-CBEE4426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1EE-5D9B-4F7C-A318-630DBE17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770-592A-4287-A4CF-E2C0FD7A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A99-0095-4BE0-A536-9B75A122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151-C041-4B6A-BFBC-800804E8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A74-F602-4018-AA04-BFB48313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653-DF32-4539-AA7B-132F525A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C2E-A4BB-4999-AD24-D8D41E6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B16-CCB3-4E0F-9256-AC8EFA83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B2D-69A2-49E3-AB38-A553FEAF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E7FE8-7FFE-4A2D-B629-6F8E867FDC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