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163647"/>
        <c:axId val="56502913"/>
      </c:barChart>
      <c:catAx>
        <c:axId val="57163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02913"/>
        <c:crosses val="autoZero"/>
        <c:auto val="1"/>
        <c:lblAlgn val="ctr"/>
        <c:lblOffset val="100"/>
        <c:noMultiLvlLbl val="0"/>
      </c:catAx>
      <c:valAx>
        <c:axId val="565029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63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01FE-021C-43E6-8A68-B8EB5FDF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5E6-DACC-41BC-8E47-F2628D09D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79F4-D0F8-4A74-9692-0342D05B2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9639-0768-4D08-AA41-7EC9180C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F88-7940-4721-81C5-005FC6580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F552-2CDB-4980-8C7F-05FE0D5CA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DF8D-4A94-4A87-A3E6-234B47150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D84-6627-4B58-BD50-2247511E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638-E1AE-4C3A-9A04-E3E71030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A7E0-DDDA-47BA-8559-4723F0D7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81CB-3E0F-4DAD-B804-B9F1003E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EAF3-2B7E-4069-A8EA-561D8D24A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E4A4D-CAF5-4586-BD25-F979BA7A0B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