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33015"/>
        <c:axId val="44919418"/>
      </c:barChart>
      <c:catAx>
        <c:axId val="55133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9418"/>
        <c:crosses val="autoZero"/>
        <c:auto val="1"/>
        <c:lblAlgn val="ctr"/>
        <c:lblOffset val="100"/>
        <c:noMultiLvlLbl val="0"/>
      </c:catAx>
      <c:valAx>
        <c:axId val="44919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3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310-5BA5-43E7-938E-3C33CA4A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B09-07F9-4797-9CD0-115DEF0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BDF-9033-4E33-A866-4DC485D7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D35-90E3-49AE-BD4F-8035F960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1A4-D11A-4945-8CC2-8F7CD4F5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652-32FA-4FDF-8740-74F301E3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7EE-CFAA-4FAC-8940-71987096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F75-0B66-44A8-BAC4-B1F7B938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508-69B7-4E68-86C6-C3D401E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0A2-B1AC-43D3-B62A-4F597EF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F01-938D-4FFA-BCC2-96E17A3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718-DBBD-40A8-8579-0A45D76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63685-919C-470D-8552-42343E93B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