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18177"/>
        <c:axId val="86652576"/>
      </c:barChart>
      <c:catAx>
        <c:axId val="12918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52576"/>
        <c:crosses val="autoZero"/>
        <c:auto val="1"/>
        <c:lblAlgn val="ctr"/>
        <c:lblOffset val="100"/>
        <c:noMultiLvlLbl val="0"/>
      </c:catAx>
      <c:valAx>
        <c:axId val="866525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18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20D-F3FB-4B36-8D0D-BB5315BF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87E-DAFA-4BCF-80BA-7382F228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530-395B-4732-92D8-DE4549C6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84B-5D4A-4CAA-B534-9E87961F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ADB-E574-44EC-8C3F-3B44BAEB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4FEA-F980-43BC-BC4F-35DCA6A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F2C-1F9C-4D95-80FB-493BF34A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98D-4A8E-4571-A551-C611AFF7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8C2-C78E-4127-9FD7-6265FBD4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765-7E7C-4054-8752-F6A0B0C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791-06F5-4B44-9B36-28D66D3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035-FE2E-4984-9830-45B2CAF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131D-C371-4249-BC12-EC985498FF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