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62513"/>
        <c:axId val="67769149"/>
      </c:barChart>
      <c:catAx>
        <c:axId val="62562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69149"/>
        <c:crosses val="autoZero"/>
        <c:auto val="1"/>
        <c:lblAlgn val="ctr"/>
        <c:lblOffset val="100"/>
        <c:noMultiLvlLbl val="0"/>
      </c:catAx>
      <c:valAx>
        <c:axId val="67769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62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965-B0CB-4AFC-AEFA-0FB40522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51E-45F2-4F74-9B3A-6FD3BEDB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BBD-EF53-4EEB-8E4F-767A4661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632-DECD-4790-AC7F-E851D8EF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08E-FB18-48B0-9117-7C9622C0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F0F-7182-4F4B-BEE7-DF5C2C42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860-808B-4127-B01D-8BA5B264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CC1-BBF4-46C8-9B20-963BE4C1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B6C-1DDC-4056-83EC-72C4ED87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8E6-416C-46C6-8059-6179F6FD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286-269E-413E-93E1-8EB0C5C4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5AC-C3B4-42E4-83AD-93F2331D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91E7B-2DD9-4784-95B9-53D6C8DBA6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